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BE08-98B0-4987-8A46-BC37D85EB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nucleus enters the egg and moves to the egg nucleus. The 2 nuclei join together and then form a zyg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breed in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zards i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may not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or offspring may be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ie due to environ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mber of sperm and egg are released to overcome ha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control behavior to have sperm and egg released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egg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prote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chance of 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 – development of unfertilized egg into an adult.- Bees &amp; Was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045-C70C-4988-818F-739D54E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665-B711-44C2-A4A2-1F481E4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11E-D3D5-420C-BB88-40032C38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213-7941-4AB6-91D6-5FE55030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C3A-8F4F-466D-BD06-FBA8667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1E4-5FDD-4DDE-8195-B72655A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2B0-8483-40DA-B878-FD2D7E4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B31-6620-4B76-9333-96CB4CAF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3FA-9F50-4F2E-A996-47C000B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8CC-DB5E-42EE-8413-307B14A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55B-2577-4CEE-990F-484A4F1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B46-5EA5-41D8-82A0-DFE167C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A94B-A5FF-493D-9CC6-739FEE87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com/imgres?imgurl=http://comenius.susqu.edu/bi/202/DICTIONARY%2520OF%2520TERMS/ANIMALS/terms/figures/sperm%2Begg.jpg&amp;imgrefurl=http://comenius.susqu.edu/bi/202/DICTIONARY%2520OF%2520TERMS/O/oogamous.htm&amp;usg=__6_5EVVHfiqVHATJlArAvd_srYUQ=&amp;h=482&amp;w=501&amp;sz=43&amp;hl=en&amp;start=5&amp;tbnid=X3vFWaZLCnI3GM:&amp;tbnh=125&amp;tbnw=130&amp;prev=/images%3Fq%3Dsperm%2Band%2Begg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desireestanley.files.wordpress.com/2009/03/blue-bird-missouri.jpg&amp;imgrefurl=http://desireestanley.wordpress.com/2009/03/&amp;usg=__J1H5bAiZmjp4GCOTc-WyhLk_WXU=&amp;h=385&amp;w=400&amp;sz=34&amp;hl=en&amp;start=2&amp;tbnid=CUCp-71F-MTkOM:&amp;tbnh=119&amp;tbnw=124&amp;prev=/images%3Fq%3Dbird%26gbv%3D2%26hl%3Den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xual Reproduction in 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397160"/>
          <a:ext cx="7696080" cy="4241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Enviro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es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y sperm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spermat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erm cells are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na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v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ew to many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32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ogene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gg cells are (n) haploid/monoplo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2503440"/>
          <a:ext cx="403848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3440"/>
                    <a:ext cx="403848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85800" y="228600"/>
          <a:ext cx="7848720" cy="6400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p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Swims through 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Head, middle, &amp; tail (flagellu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Larger than a body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Cannot move on its 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*Round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24" descr="_42574053_egg_cell_ap_203b"/>
          <p:cNvPicPr/>
          <p:nvPr/>
        </p:nvPicPr>
        <p:blipFill>
          <a:blip r:embed="rId3"/>
          <a:stretch/>
        </p:blipFill>
        <p:spPr>
          <a:xfrm>
            <a:off x="5105520" y="76212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sperm01"/>
          <p:cNvPicPr/>
          <p:nvPr/>
        </p:nvPicPr>
        <p:blipFill>
          <a:blip r:embed="rId4"/>
          <a:stretch/>
        </p:blipFill>
        <p:spPr>
          <a:xfrm>
            <a:off x="1371600" y="838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erm nucleus enters the egg and moves to the egg nucleus. The 2 nuclei join together and then form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zygot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esc_05_img0247"/>
          <p:cNvPicPr/>
          <p:nvPr/>
        </p:nvPicPr>
        <p:blipFill>
          <a:blip r:embed="rId1"/>
          <a:stretch/>
        </p:blipFill>
        <p:spPr>
          <a:xfrm>
            <a:off x="838080" y="3200400"/>
            <a:ext cx="2492640" cy="32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rm%2Beg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429000"/>
            <a:ext cx="3048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utside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imals that breed i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Many hazards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perm and egg may not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ggs or offspring may be e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ay die due to environment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xyge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iamese-fighting-fish"/>
          <p:cNvPicPr/>
          <p:nvPr/>
        </p:nvPicPr>
        <p:blipFill>
          <a:blip r:embed="rId1"/>
          <a:stretch/>
        </p:blipFill>
        <p:spPr>
          <a:xfrm>
            <a:off x="6858000" y="1371600"/>
            <a:ext cx="16732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 number of sperm and egg are released to overcom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rmones control behavior to have sperm and egg released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sh"/>
          <p:cNvPicPr/>
          <p:nvPr/>
        </p:nvPicPr>
        <p:blipFill>
          <a:blip r:embed="rId1"/>
          <a:stretch/>
        </p:blipFill>
        <p:spPr>
          <a:xfrm>
            <a:off x="2743200" y="3505320"/>
            <a:ext cx="365436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ertil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within the femal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raft_lens1441580module8530159photo_Dog_Medicine_Side_Effects5"/>
          <p:cNvPicPr/>
          <p:nvPr/>
        </p:nvPicPr>
        <p:blipFill>
          <a:blip r:embed="rId1"/>
          <a:stretch/>
        </p:blipFill>
        <p:spPr>
          <a:xfrm>
            <a:off x="3581280" y="1523880"/>
            <a:ext cx="137160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Five dead sharks were found ..."/>
          <p:cNvPicPr/>
          <p:nvPr/>
        </p:nvPicPr>
        <p:blipFill>
          <a:blip r:embed="rId2"/>
          <a:stretch/>
        </p:blipFill>
        <p:spPr>
          <a:xfrm>
            <a:off x="5410080" y="3733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octopus"/>
          <p:cNvPicPr/>
          <p:nvPr/>
        </p:nvPicPr>
        <p:blipFill>
          <a:blip r:embed="rId3"/>
          <a:stretch/>
        </p:blipFill>
        <p:spPr>
          <a:xfrm>
            <a:off x="4572000" y="4952880"/>
            <a:ext cx="247644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lue-bird-missouri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1523880"/>
            <a:ext cx="1333440" cy="127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Two Headed Snake"/>
          <p:cNvPicPr/>
          <p:nvPr/>
        </p:nvPicPr>
        <p:blipFill>
          <a:blip r:embed="rId6"/>
          <a:stretch/>
        </p:blipFill>
        <p:spPr>
          <a:xfrm>
            <a:off x="6781680" y="1523880"/>
            <a:ext cx="13701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specialized sex organ to carry sperm to body of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y environment needed for sperm to swim to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ertilization"/>
          <p:cNvPicPr/>
          <p:nvPr/>
        </p:nvPicPr>
        <p:blipFill>
          <a:blip r:embed="rId1"/>
          <a:stretch/>
        </p:blipFill>
        <p:spPr>
          <a:xfrm>
            <a:off x="3352680" y="3809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ertilization, zygote is enclosed in a protective shell and released OR remains and develops in femal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zygote"/>
          <p:cNvPicPr/>
          <p:nvPr/>
        </p:nvPicPr>
        <p:blipFill>
          <a:blip r:embed="rId1"/>
          <a:stretch/>
        </p:blipFill>
        <p:spPr>
          <a:xfrm>
            <a:off x="838080" y="2743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OGGER-2"/>
          <p:cNvPicPr/>
          <p:nvPr/>
        </p:nvPicPr>
        <p:blipFill>
          <a:blip r:embed="rId2"/>
          <a:stretch/>
        </p:blipFill>
        <p:spPr>
          <a:xfrm>
            <a:off x="5943600" y="2362320"/>
            <a:ext cx="2079720" cy="3028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685800" y="523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62720" y="556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tle lay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ternal 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wer egg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ll prot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d chance of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arthenogenesi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– development of unfertilized egg into an adult.- Bees &amp; Wa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es"/>
          <p:cNvPicPr/>
          <p:nvPr/>
        </p:nvPicPr>
        <p:blipFill>
          <a:blip r:embed="rId1"/>
          <a:stretch/>
        </p:blipFill>
        <p:spPr>
          <a:xfrm>
            <a:off x="2209680" y="4114800"/>
            <a:ext cx="3753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3:21Z</dcterms:created>
  <dc:creator>bzemcik</dc:creator>
  <dc:description/>
  <dc:language>en-US</dc:language>
  <cp:lastModifiedBy>RomaK</cp:lastModifiedBy>
  <dcterms:modified xsi:type="dcterms:W3CDTF">2015-09-04T11:08:23Z</dcterms:modified>
  <cp:revision>8</cp:revision>
  <dc:subject/>
  <dc:title>Sexual Reproduction in Animals</dc:title>
</cp:coreProperties>
</file>